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290E-0346-4445-BE1F-54C31CFF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DEE9-9E54-4665-9603-2BAB05CE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807A-9ECC-4DBE-ABE9-34600EE1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5492-3726-479D-ADFD-A0ED1823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704E-C975-4F13-9F18-C80D22B9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C3F-BB14-40D8-B3CD-D13830F3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6462-A476-45B1-9E20-F7F62F3D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20BE-1D8A-459E-BE66-B76E03C3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8A8-BE28-4B40-928B-E343E517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906-D491-43A8-9BFC-1FFFFD3B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42F-22FC-433A-B186-3CBFFFB7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D38-2126-48C0-B498-56281450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50A5-46A5-4707-BAC8-9F5CFFCAE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sp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T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mats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pats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littl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P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m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4:21:27Z</dcterms:created>
  <dc:creator> </dc:creator>
  <dc:description/>
  <dc:language>en-US</dc:language>
  <cp:lastModifiedBy> </cp:lastModifiedBy>
  <dcterms:modified xsi:type="dcterms:W3CDTF">2007-04-17T14:50:04Z</dcterms:modified>
  <cp:revision>3</cp:revision>
  <dc:subject/>
  <dc:title>mat</dc:title>
</cp:coreProperties>
</file>